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E1F7-E48B-4DA8-BE7D-60455329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A505-D8F7-425E-8486-7D6BB890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4EF5-2913-42EF-A0C1-A977EBB7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D1D-50BB-4DF5-9128-5F4A91B9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C35-7DE0-44EF-BFD0-F7DFEFC7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3B1F-0537-4085-8EAC-8EEF91C3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7FB3-9469-417E-93FF-393589F7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524A-4ED0-4423-A5DD-983BF420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5314-162B-41F9-8DB5-01B97213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B76F-1BB7-45A9-9B6B-6719901E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DFCA-31B5-43FB-A6F0-FE60869F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8EA-4569-457A-97E5-69FBA11C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8E97-4A2A-4DBB-B297-E45C49B29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-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identify and explain cause and effect situ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atch the video.  Write down a cause and effect situati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Because…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caus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Arial"/>
              </a:rPr>
              <a:t>effec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ghting for Fairness” Graphic Organizer on Cause and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we work on a cause and effect example together, finish the graphic organizer on your ow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finish, read quietly until we are all ready to discuss cause and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oose an article from the front of the room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PLET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5 annotations on the artic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 RR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r the RRJ, answer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re the people in your article affected by the actions of others that discriminated against th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for RR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article I re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___(maybe a group of peo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_____________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use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maybe the group discriminated against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…_(feel, not be able to…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know this is true becau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text evidence #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rticle also mentioned t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_(text evidence #2)                                                     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helped me understand…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ideas in articles and discover more cause/effect sit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20:51:10Z</dcterms:created>
  <dc:creator>Administrator</dc:creator>
  <dc:description/>
  <dc:language>en-US</dc:language>
  <cp:lastModifiedBy>Administrator</cp:lastModifiedBy>
  <dcterms:modified xsi:type="dcterms:W3CDTF">2010-08-31T21:17:34Z</dcterms:modified>
  <cp:revision>4</cp:revision>
  <dc:subject/>
  <dc:title>9-2 I can identify and explain cause and effect situations.</dc:title>
</cp:coreProperties>
</file>